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11.wmf" ContentType="image/x-wmf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01C3-1BE3-42DC-88C7-C70EF2EA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4AEC-6E64-48D7-910D-A1EF83BD2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F93F-3D7E-4A56-8E32-A66FC86D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581B-E81C-4724-AC87-8584A8C4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AAB7-21BF-429B-BF1F-8F64A018B04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58EB-6D55-49CB-9875-18EA9764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IP-2 Participants with a focus on Access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BF34-C8BF-481A-B001-CD7FACD7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B6C9-A6E4-4F71-B5A4-2BB35A9F6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5242-12A9-44FB-BD0C-A37F82DD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11A2-01CB-441C-9F9C-306610C6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1999-34CC-4790-8F9B-8591AB618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rse resolution – who, short vs. of what they propose (primary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other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A86-5854-4D9F-A792-D45220F7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AFT ver 14 09/04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AFT ver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B25A-5B3B-45B6-B5B5-9E851B3F30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7CAE-323B-43A4-A917-FAA8B9D2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214720" y="228600"/>
            <a:ext cx="2236680" cy="1676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82680" y="2133720"/>
            <a:ext cx="624528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3CE3-5F78-40BE-9C70-EEB99685C1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Call for Participation (CFP) in the GEOSS Architecture Implementation Pilot, Phase 2 was announced by the GEO Secretariat on 30 June 2008.  To date, 37 responses have been received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 CFP remains open for the duration of AIP-2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KO was held in Boulder Colorado, USA, Sep 25-26.  Eighty five (85) persons attended the workshop over the two days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AIP-2 Development phase will be conducted in 9 wgs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4 Community Working Groups will develop Scenarios that define the user objectives and the steps in the users decision process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5 Transverse Technology Working Groups are developing Use Cases that define how GEOSS Interoperability Arrangements are used to support the steps in the user Scenarios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IP-2 plans to be completed in March 2009 with these results: 1) Demonstrations of the user scenarios;  2) Transition of select services to persistent operations, and 3) Select reports provided to the GEOSS Best Practices Registr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P-2 CFP Responses (37 to d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ryoCli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 World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K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NETC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/NASA GOES-R and GMU CS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ibbean Flood Tea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 Gr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IO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ES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-Ukra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NC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ES and ERD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ovan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SN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su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A AirN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T4E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rop Grum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DAS Tit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A/NIMSAT/GoMO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IP AQ Clu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P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X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RI Canad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s Paris 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ton University in 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D63-4E8A-4D25-8546-5967E9DA1B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B0A9-9795-42EF-9F6C-9DD843254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4B87-6706-47B4-AFF0-7312FD1A9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950-DF89-47EB-BEBB-297A6BE5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841-473C-49BE-AB81-FCCE708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8D2-65D6-4C5D-B663-CD61C761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33A-E84E-4544-8499-30974D6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AAA-3A0E-4D05-8E8A-21B7E09D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22C-D485-464A-A151-81022F43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7FF-C999-4A80-84D7-2DDBE8F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F9C-3296-4CE3-84DA-CFF7B633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90E-C5EA-41F9-952A-6B5D4F6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33E-27F2-48AE-8457-8E15C40D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D5A-40C2-4E00-98EB-0B08A0FA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508-499C-414D-BC34-B36F9A3F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Open Geospatial Consortium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28A0-C6DC-4BF6-89A4-F76571605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arthobservations.org/" TargetMode="External"/><Relationship Id="rId2" Type="http://schemas.openxmlformats.org/officeDocument/2006/relationships/hyperlink" Target="http://www.ogcnetwork.net/AIpilot" TargetMode="External"/><Relationship Id="rId3" Type="http://schemas.openxmlformats.org/officeDocument/2006/relationships/hyperlink" Target="http://geossregistries.info/" TargetMode="External"/><Relationship Id="rId4" Type="http://schemas.openxmlformats.org/officeDocument/2006/relationships/hyperlink" Target="mailto:percivall@myogc.org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ites.google.com/site/geosspilot2" TargetMode="External"/><Relationship Id="rId2" Type="http://schemas.openxmlformats.org/officeDocument/2006/relationships/hyperlink" Target="https://lists.opengeospatial.org/mailman/listinfo/aip_access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128.252.167.3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GEO </a:t>
            </a:r>
            <a:br>
              <a:rPr sz="32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r</a:t>
            </a: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873600"/>
            <a:ext cx="64008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P Feder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9"/>
          <p:cNvSpPr/>
          <p:nvPr/>
        </p:nvSpPr>
        <p:spPr>
          <a:xfrm>
            <a:off x="290520" y="1538280"/>
            <a:ext cx="7048440" cy="459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529240" y="468540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06800" y="3859920"/>
            <a:ext cx="14716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383920" y="2993400"/>
            <a:ext cx="1566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735120" y="2156760"/>
            <a:ext cx="163656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7396200" y="5412960"/>
            <a:ext cx="152064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-07-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20"/>
          <p:cNvCxnSpPr>
            <a:stCxn id="134" idx="2"/>
            <a:endCxn id="133" idx="1"/>
          </p:cNvCxnSpPr>
          <p:nvPr/>
        </p:nvCxnSpPr>
        <p:spPr>
          <a:xfrm flipH="1" rot="16200000">
            <a:off x="1709640" y="2647080"/>
            <a:ext cx="511920" cy="82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AutoShape 21"/>
          <p:cNvCxnSpPr>
            <a:endCxn id="132" idx="1"/>
          </p:cNvCxnSpPr>
          <p:nvPr/>
        </p:nvCxnSpPr>
        <p:spPr>
          <a:xfrm flipH="1" rot="16200000">
            <a:off x="3357360" y="3532680"/>
            <a:ext cx="525960" cy="772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22"/>
          <p:cNvCxnSpPr/>
          <p:nvPr/>
        </p:nvCxnSpPr>
        <p:spPr>
          <a:xfrm flipH="1" rot="16200000">
            <a:off x="4864680" y="4303440"/>
            <a:ext cx="511920" cy="90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23"/>
          <p:cNvCxnSpPr>
            <a:endCxn id="135" idx="1"/>
          </p:cNvCxnSpPr>
          <p:nvPr/>
        </p:nvCxnSpPr>
        <p:spPr>
          <a:xfrm flipH="1" rot="16200000">
            <a:off x="6619680" y="5095440"/>
            <a:ext cx="553320" cy="1000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Line 27"/>
          <p:cNvSpPr/>
          <p:nvPr/>
        </p:nvSpPr>
        <p:spPr>
          <a:xfrm>
            <a:off x="6380280" y="436392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33"/>
          <p:cNvCxnSpPr>
            <a:stCxn id="135" idx="2"/>
            <a:endCxn id="134" idx="1"/>
          </p:cNvCxnSpPr>
          <p:nvPr/>
        </p:nvCxnSpPr>
        <p:spPr>
          <a:xfrm flipV="1" rot="16200000">
            <a:off x="2517120" y="694800"/>
            <a:ext cx="3856680" cy="7422120"/>
          </a:xfrm>
          <a:prstGeom prst="bentConnector4">
            <a:avLst>
              <a:gd name="adj1" fmla="val -5927"/>
              <a:gd name="adj2" fmla="val 1030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Text Box 38"/>
          <p:cNvSpPr/>
          <p:nvPr/>
        </p:nvSpPr>
        <p:spPr>
          <a:xfrm>
            <a:off x="5801400" y="41101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9"/>
          <p:cNvSpPr/>
          <p:nvPr/>
        </p:nvSpPr>
        <p:spPr>
          <a:xfrm>
            <a:off x="4713120" y="354816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23440" y="32828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1"/>
          <p:cNvSpPr/>
          <p:nvPr/>
        </p:nvSpPr>
        <p:spPr>
          <a:xfrm>
            <a:off x="3174840" y="268776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2574000" y="24112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3"/>
          <p:cNvSpPr/>
          <p:nvPr/>
        </p:nvSpPr>
        <p:spPr>
          <a:xfrm>
            <a:off x="1558800" y="186840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4"/>
          <p:cNvSpPr/>
          <p:nvPr/>
        </p:nvSpPr>
        <p:spPr>
          <a:xfrm>
            <a:off x="969120" y="16034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5"/>
          <p:cNvSpPr/>
          <p:nvPr/>
        </p:nvSpPr>
        <p:spPr>
          <a:xfrm>
            <a:off x="8163000" y="509904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7584480" y="48006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2"/>
          <p:cNvGrpSpPr/>
          <p:nvPr/>
        </p:nvGrpSpPr>
        <p:grpSpPr>
          <a:xfrm>
            <a:off x="1012680" y="4143240"/>
            <a:ext cx="2013120" cy="1664640"/>
            <a:chOff x="1012680" y="4143240"/>
            <a:chExt cx="2013120" cy="1664640"/>
          </a:xfrm>
        </p:grpSpPr>
        <p:sp>
          <p:nvSpPr>
            <p:cNvPr id="152" name="Rectangle 29"/>
            <p:cNvSpPr/>
            <p:nvPr/>
          </p:nvSpPr>
          <p:spPr>
            <a:xfrm>
              <a:off x="1012680" y="4691160"/>
              <a:ext cx="20131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>
              <a:off x="2019240" y="438624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7"/>
            <p:cNvSpPr/>
            <p:nvPr/>
          </p:nvSpPr>
          <p:spPr>
            <a:xfrm>
              <a:off x="2019240" y="5216400"/>
              <a:ext cx="0" cy="31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7"/>
            <p:cNvSpPr/>
            <p:nvPr/>
          </p:nvSpPr>
          <p:spPr>
            <a:xfrm>
              <a:off x="1054080" y="414324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s for each st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1586520" y="55008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1"/>
          <p:cNvSpPr/>
          <p:nvPr/>
        </p:nvSpPr>
        <p:spPr>
          <a:xfrm>
            <a:off x="3044880" y="1722600"/>
            <a:ext cx="41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-07-02 Architecture Implementation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utionary Developm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3"/>
          <p:cNvSpPr/>
          <p:nvPr/>
        </p:nvSpPr>
        <p:spPr>
          <a:xfrm>
            <a:off x="1045800" y="6243480"/>
            <a:ext cx="579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Baseline and Lessons Learned for next evolutionary spi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eft-Right Arrow 32"/>
          <p:cNvSpPr/>
          <p:nvPr/>
        </p:nvSpPr>
        <p:spPr>
          <a:xfrm>
            <a:off x="6284880" y="2685960"/>
            <a:ext cx="2228760" cy="871560"/>
          </a:xfrm>
          <a:prstGeom prst="leftRightArrow">
            <a:avLst>
              <a:gd name="adj1" fmla="val 50000"/>
              <a:gd name="adj2" fmla="val 5005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interaction with extern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IP Phase 2 Master Schedul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62" name="Content Placeholder 5" descr=""/>
          <p:cNvPicPr/>
          <p:nvPr/>
        </p:nvPicPr>
        <p:blipFill>
          <a:blip r:embed="rId1"/>
          <a:stretch/>
        </p:blipFill>
        <p:spPr>
          <a:xfrm>
            <a:off x="658800" y="1805040"/>
            <a:ext cx="791856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356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CFP Responses (37 to date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8080" y="1442880"/>
            <a:ext cx="27241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ibbean Flood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E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ES and ER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Air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DAS T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AQ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RI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CryoC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5626080" y="1442880"/>
            <a:ext cx="287964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/NASA GOES-R and GMU CS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I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N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SNA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b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A/NIMSAT/GoM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 University in St. Lou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3211560" y="1442880"/>
            <a:ext cx="27255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NET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-Ukr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T4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s Paris 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A World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060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Kickoff Workshop, September 2008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3560" y="1384200"/>
            <a:ext cx="4057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NCAR Mesa Laboratory, Boulder, Colorado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lenary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Parallel Sessions based on CFP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Working Groups; and Develop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IMG_1786.jpg"/>
          <p:cNvPicPr/>
          <p:nvPr/>
        </p:nvPicPr>
        <p:blipFill>
          <a:blip r:embed="rId1"/>
          <a:stretch/>
        </p:blipFill>
        <p:spPr>
          <a:xfrm>
            <a:off x="1298520" y="412740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IMG_1787.jpg"/>
          <p:cNvPicPr/>
          <p:nvPr/>
        </p:nvPicPr>
        <p:blipFill>
          <a:blip r:embed="rId2"/>
          <a:stretch/>
        </p:blipFill>
        <p:spPr>
          <a:xfrm>
            <a:off x="4797360" y="394488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MG_1789.jpg"/>
          <p:cNvPicPr/>
          <p:nvPr/>
        </p:nvPicPr>
        <p:blipFill>
          <a:blip r:embed="rId3"/>
          <a:stretch/>
        </p:blipFill>
        <p:spPr>
          <a:xfrm>
            <a:off x="5030640" y="14112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7"/>
          <p:cNvSpPr/>
          <p:nvPr/>
        </p:nvSpPr>
        <p:spPr>
          <a:xfrm>
            <a:off x="3276720" y="228600"/>
            <a:ext cx="34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0"/>
          <p:cNvGrpSpPr/>
          <p:nvPr/>
        </p:nvGrpSpPr>
        <p:grpSpPr>
          <a:xfrm>
            <a:off x="990720" y="990720"/>
            <a:ext cx="7696080" cy="5638680"/>
            <a:chOff x="990720" y="990720"/>
            <a:chExt cx="7696080" cy="5638680"/>
          </a:xfrm>
        </p:grpSpPr>
        <p:grpSp>
          <p:nvGrpSpPr>
            <p:cNvPr id="174" name="Group 37"/>
            <p:cNvGrpSpPr/>
            <p:nvPr/>
          </p:nvGrpSpPr>
          <p:grpSpPr>
            <a:xfrm>
              <a:off x="990720" y="990720"/>
              <a:ext cx="7696080" cy="5638680"/>
              <a:chOff x="990720" y="990720"/>
              <a:chExt cx="7696080" cy="5638680"/>
            </a:xfrm>
          </p:grpSpPr>
          <p:sp>
            <p:nvSpPr>
              <p:cNvPr id="175" name="Rectangle 23"/>
              <p:cNvSpPr/>
              <p:nvPr/>
            </p:nvSpPr>
            <p:spPr>
              <a:xfrm>
                <a:off x="4495680" y="990720"/>
                <a:ext cx="4191120" cy="1523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23"/>
              <p:cNvSpPr/>
              <p:nvPr/>
            </p:nvSpPr>
            <p:spPr>
              <a:xfrm>
                <a:off x="990720" y="5029200"/>
                <a:ext cx="3809880" cy="1600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3"/>
              <p:cNvSpPr/>
              <p:nvPr/>
            </p:nvSpPr>
            <p:spPr>
              <a:xfrm>
                <a:off x="3962520" y="1523880"/>
                <a:ext cx="4724280" cy="5105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39"/>
              <p:cNvSpPr/>
              <p:nvPr/>
            </p:nvSpPr>
            <p:spPr>
              <a:xfrm>
                <a:off x="4629240" y="990720"/>
                <a:ext cx="3905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gistered Community 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38"/>
            <p:cNvGrpSpPr/>
            <p:nvPr/>
          </p:nvGrpSpPr>
          <p:grpSpPr>
            <a:xfrm>
              <a:off x="4191120" y="1676520"/>
              <a:ext cx="4343400" cy="1066680"/>
              <a:chOff x="4191120" y="1676520"/>
              <a:chExt cx="4343400" cy="1066680"/>
            </a:xfrm>
          </p:grpSpPr>
          <p:sp>
            <p:nvSpPr>
              <p:cNvPr id="180" name="Rounded Rectangle 57"/>
              <p:cNvSpPr/>
              <p:nvPr/>
            </p:nvSpPr>
            <p:spPr>
              <a:xfrm>
                <a:off x="4191120" y="1676520"/>
                <a:ext cx="434340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9bed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4489560" y="1981080"/>
                <a:ext cx="14619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mmunity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"/>
              <p:cNvSpPr/>
              <p:nvPr/>
            </p:nvSpPr>
            <p:spPr>
              <a:xfrm>
                <a:off x="6470640" y="19810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ent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3"/>
              <p:cNvSpPr/>
              <p:nvPr/>
            </p:nvSpPr>
            <p:spPr>
              <a:xfrm>
                <a:off x="7410240" y="1685880"/>
                <a:ext cx="99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Client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39"/>
            <p:cNvGrpSpPr/>
            <p:nvPr/>
          </p:nvGrpSpPr>
          <p:grpSpPr>
            <a:xfrm>
              <a:off x="4191120" y="2971800"/>
              <a:ext cx="4343400" cy="1981080"/>
              <a:chOff x="4191120" y="2971800"/>
              <a:chExt cx="4343400" cy="1981080"/>
            </a:xfrm>
          </p:grpSpPr>
          <p:sp>
            <p:nvSpPr>
              <p:cNvPr id="185" name="Rounded Rectangle 58"/>
              <p:cNvSpPr/>
              <p:nvPr/>
            </p:nvSpPr>
            <p:spPr>
              <a:xfrm>
                <a:off x="4191120" y="2971800"/>
                <a:ext cx="4343400" cy="1981080"/>
              </a:xfrm>
              <a:prstGeom prst="roundRect">
                <a:avLst>
                  <a:gd name="adj" fmla="val 16667"/>
                </a:avLst>
              </a:prstGeom>
              <a:solidFill>
                <a:srgbClr val="78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7"/>
              <p:cNvSpPr/>
              <p:nvPr/>
            </p:nvSpPr>
            <p:spPr>
              <a:xfrm>
                <a:off x="6402960" y="3044520"/>
                <a:ext cx="195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Business Process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9"/>
              <p:cNvSpPr/>
              <p:nvPr/>
            </p:nvSpPr>
            <p:spPr>
              <a:xfrm>
                <a:off x="4489560" y="33526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mmun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talog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4489560" y="411480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e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6546960" y="33526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orkfl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nag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9"/>
              <p:cNvSpPr/>
              <p:nvPr/>
            </p:nvSpPr>
            <p:spPr>
              <a:xfrm>
                <a:off x="6546960" y="411480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40"/>
            <p:cNvGrpSpPr/>
            <p:nvPr/>
          </p:nvGrpSpPr>
          <p:grpSpPr>
            <a:xfrm>
              <a:off x="1447920" y="5181840"/>
              <a:ext cx="7086600" cy="1295280"/>
              <a:chOff x="1447920" y="5181840"/>
              <a:chExt cx="7086600" cy="1295280"/>
            </a:xfrm>
          </p:grpSpPr>
          <p:sp>
            <p:nvSpPr>
              <p:cNvPr id="192" name="Rounded Rectangle 59"/>
              <p:cNvSpPr/>
              <p:nvPr/>
            </p:nvSpPr>
            <p:spPr>
              <a:xfrm>
                <a:off x="1447920" y="5181840"/>
                <a:ext cx="708660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38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281720" y="5229360"/>
                <a:ext cx="111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</a:rPr>
                  <a:t>Access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175248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EONETCa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3315240" y="5562720"/>
                <a:ext cx="152388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duct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495324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sor W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9"/>
              <p:cNvSpPr/>
              <p:nvPr/>
            </p:nvSpPr>
            <p:spPr>
              <a:xfrm>
                <a:off x="655344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36"/>
          <p:cNvGrpSpPr/>
          <p:nvPr/>
        </p:nvGrpSpPr>
        <p:grpSpPr>
          <a:xfrm>
            <a:off x="380880" y="914400"/>
            <a:ext cx="4038840" cy="3962520"/>
            <a:chOff x="380880" y="914400"/>
            <a:chExt cx="4038840" cy="3962520"/>
          </a:xfrm>
        </p:grpSpPr>
        <p:sp>
          <p:nvSpPr>
            <p:cNvPr id="199" name="Rounded Rectangle 96"/>
            <p:cNvSpPr/>
            <p:nvPr/>
          </p:nvSpPr>
          <p:spPr>
            <a:xfrm>
              <a:off x="380880" y="990360"/>
              <a:ext cx="3429360" cy="3886560"/>
            </a:xfrm>
            <a:custGeom>
              <a:avLst/>
              <a:gdLst>
                <a:gd name="textAreaLeft" fmla="*/ 167400 w 3429360"/>
                <a:gd name="textAreaRight" fmla="*/ 3261960 w 3429360"/>
                <a:gd name="textAreaTop" fmla="*/ 167400 h 3886560"/>
                <a:gd name="textAreaBottom" fmla="*/ 3719160 h 3886560"/>
              </a:gdLst>
              <a:ahLst/>
              <a:rect l="textAreaLeft" t="textAreaTop" r="textAreaRight" b="textAreaBottom"/>
              <a:pathLst>
                <a:path w="21600" h="24479">
                  <a:moveTo>
                    <a:pt x="3600" y="0"/>
                  </a:moveTo>
                  <a:arcTo wR="3600" hR="3600" stAng="16200000" swAng="-5400000"/>
                  <a:lnTo>
                    <a:pt x="0" y="20879"/>
                  </a:lnTo>
                  <a:arcTo wR="3600" hR="3600" stAng="10800000" swAng="-5400000"/>
                  <a:lnTo>
                    <a:pt x="18000" y="24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"/>
            <p:cNvSpPr/>
            <p:nvPr/>
          </p:nvSpPr>
          <p:spPr>
            <a:xfrm>
              <a:off x="2209680" y="3362400"/>
              <a:ext cx="1447920" cy="600120"/>
            </a:xfrm>
            <a:prstGeom prst="rect">
              <a:avLst/>
            </a:prstGeom>
            <a:solidFill>
              <a:srgbClr val="789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ing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>
              <a:off x="2209680" y="1942920"/>
              <a:ext cx="1440000" cy="647640"/>
            </a:xfrm>
            <a:prstGeom prst="rect">
              <a:avLst/>
            </a:prstGeom>
            <a:solidFill>
              <a:srgbClr val="87ef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b Port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94"/>
            <p:cNvSpPr/>
            <p:nvPr/>
          </p:nvSpPr>
          <p:spPr>
            <a:xfrm>
              <a:off x="620280" y="1029960"/>
              <a:ext cx="225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GEOSS Comm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72"/>
            <p:cNvGrpSpPr/>
            <p:nvPr/>
          </p:nvGrpSpPr>
          <p:grpSpPr>
            <a:xfrm>
              <a:off x="609480" y="2171520"/>
              <a:ext cx="1523880" cy="2552760"/>
              <a:chOff x="609480" y="2171520"/>
              <a:chExt cx="1523880" cy="2552760"/>
            </a:xfrm>
          </p:grpSpPr>
          <p:sp>
            <p:nvSpPr>
              <p:cNvPr id="204" name="AutoShape 4"/>
              <p:cNvSpPr/>
              <p:nvPr/>
            </p:nvSpPr>
            <p:spPr>
              <a:xfrm>
                <a:off x="609480" y="2171520"/>
                <a:ext cx="1523880" cy="2552760"/>
              </a:xfrm>
              <a:custGeom>
                <a:avLst/>
                <a:gdLst>
                  <a:gd name="textAreaLeft" fmla="*/ 42840 w 1523880"/>
                  <a:gd name="textAreaRight" fmla="*/ 1481040 w 1523880"/>
                  <a:gd name="textAreaTop" fmla="*/ 42840 h 2552760"/>
                  <a:gd name="textAreaBottom" fmla="*/ 2509920 h 2552760"/>
                </a:gdLst>
                <a:ahLst/>
                <a:rect l="textAreaLeft" t="textAreaTop" r="textAreaRight" b="textAreaBottom"/>
                <a:pathLst>
                  <a:path w="21600" h="36180">
                    <a:moveTo>
                      <a:pt x="2083" y="0"/>
                    </a:moveTo>
                    <a:arcTo wR="2083" hR="2083" stAng="16200000" swAng="-5400000"/>
                    <a:lnTo>
                      <a:pt x="0" y="34097"/>
                    </a:lnTo>
                    <a:arcTo wR="2083" hR="2083" stAng="10800000" swAng="-5400000"/>
                    <a:lnTo>
                      <a:pt x="19517" y="36180"/>
                    </a:lnTo>
                    <a:arcTo wR="2083" hR="2083" stAng="5400000" swAng="-5400000"/>
                    <a:lnTo>
                      <a:pt x="21600" y="2083"/>
                    </a:lnTo>
                    <a:arcTo wR="2083" hR="2083" stAng="0" swAng="-5400000"/>
                    <a:close/>
                  </a:path>
                </a:pathLst>
              </a:custGeom>
              <a:solidFill>
                <a:srgbClr val="76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5"/>
              <p:cNvSpPr/>
              <p:nvPr/>
            </p:nvSpPr>
            <p:spPr>
              <a:xfrm>
                <a:off x="719640" y="2552400"/>
                <a:ext cx="1288440" cy="49536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omponent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&amp; 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6"/>
              <p:cNvSpPr/>
              <p:nvPr/>
            </p:nvSpPr>
            <p:spPr>
              <a:xfrm>
                <a:off x="717480" y="3124080"/>
                <a:ext cx="1276200" cy="4572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tandards 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teroperabil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66"/>
              <p:cNvSpPr/>
              <p:nvPr/>
            </p:nvSpPr>
            <p:spPr>
              <a:xfrm>
                <a:off x="723600" y="3657600"/>
                <a:ext cx="1276200" cy="4093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est Pract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ik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67"/>
              <p:cNvSpPr/>
              <p:nvPr/>
            </p:nvSpPr>
            <p:spPr>
              <a:xfrm>
                <a:off x="723600" y="4114800"/>
                <a:ext cx="1276200" cy="48096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User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5"/>
              <p:cNvSpPr/>
              <p:nvPr/>
            </p:nvSpPr>
            <p:spPr>
              <a:xfrm>
                <a:off x="761760" y="2201400"/>
                <a:ext cx="11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gistr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Rectangle 40"/>
            <p:cNvSpPr/>
            <p:nvPr/>
          </p:nvSpPr>
          <p:spPr>
            <a:xfrm>
              <a:off x="3200400" y="914400"/>
              <a:ext cx="1219320" cy="557280"/>
            </a:xfrm>
            <a:prstGeom prst="rect">
              <a:avLst/>
            </a:prstGeom>
            <a:solidFill>
              <a:srgbClr val="87eff9"/>
            </a:solidFill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 G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57400" y="199800"/>
            <a:ext cx="5610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Augmenting GC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Working Groups (WGs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Change and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verse Technology W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inghouse, Catalogues, Registries and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Services: products, sensors,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and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s and Application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acility for servic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mmunity WG Lead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art Frye, NAS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er Giacobbo, Spot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SBA: Air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McCabe, E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k Lindsay, NA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Falke &amp; Rudy Husar, Washington Uni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diversity and Climate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o Nativi, CN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y Geller, NASA/J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erry Ranchin &amp; Lionel Menard, Mines Paris Tech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sworth LeDrew, Univ Waterlo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ransverse Technology WG Lead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440" y="1596960"/>
            <a:ext cx="38098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logues, Clearinghouse, Registries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 Nebert, USG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d Haberman, NO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go Aizawa, JAXA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h Lieberman OGC/Traver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and Al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oshi Sekiguchi, AIS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gene Yu, GM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Yetman, CIE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acility for service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uro Semerano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7960" y="1596960"/>
            <a:ext cx="38098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s and application cl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ine Alameh, OGC/MobileAp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ve' Caumont, OGC/ER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Services: products, sensors,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Rutledge NOA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ve' Caumont, OGC/ERD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s Peter Plag, UN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war Vahed, ICT4E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s Bermudez  SUR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cenarios and Use Cas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1558440"/>
            <a:ext cx="808524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ort Communi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enar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d user view of the value of GEO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topics of interest to a commun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 in a geographic Area of Interest (AO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in a scenario are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s developed by Community W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usable service oriented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s for discovery, data acces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Interoperability 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s developed by Transverse Technology W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mmunity Scenarios - Draf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and Heal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arth observations to inform three decision-makers: policy-maker, AQ compliance manager, and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cycle for Flood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diversit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scenario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 impact on Pikas in North Amer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selection process for solar and wind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AIP-2 Session at ESIP Feder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, Phase 2 (AIP-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P Overview – George Percivall, O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Working Group – Glenn Rutledge, N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Working Group – Stefan Falke, Northrop Grum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ransverse Technology Use Cases - DRAF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620720"/>
            <a:ext cx="77724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arch of meta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/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e &amp; Analyze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/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ccess of services and ale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/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Component and Serv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 to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Re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Standards and Best Pract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inghouse Harvest and 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nd publish work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gistered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Deliverables - 2009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ion of community Scenarios implemented through transverse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ions to be recorded and made available via WW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gineering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 be considered for GEOSS Best Practice Regis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ty of Practice Scen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verse Technology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P-2 Summar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istent Exemp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ervices (‘continuous operation’) with 99% availability (~7 hours down time a month); on a reliable network; plan for performance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mination to operational task (AR-09-01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80680" y="74880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arthobservation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Architecture Implementation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gcnetwork.net/AIpi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registries and 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ossregistries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64200" y="1303200"/>
            <a:ext cx="3200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Perciv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ercivall@myogc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AIP-2 Session at ESIP Feder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, Phase 2 (AIP-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P Overview – George Percivall, O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Working Group – Glenn Rutledge, N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Working Group – Stefan Falke, Northrop Grum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00440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000"/>
            </a:b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Task AR-07-02 </a:t>
            </a:r>
            <a:br>
              <a:rPr sz="2000"/>
            </a:b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 Access Services: Products, Sensors, Models WG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63080" y="3940200"/>
            <a:ext cx="684684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Services Co-Chai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enn Rutledge, NOA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vé Caumont, ER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is Bermudez,  S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ence Van Zyl, CSI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IP Winter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nuary 8th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Data Product Ac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3 Primary respon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 CIESIN, CNES, EPA, ESA, GEO-Ukraine, ICAN, ICT4EO, IP3, ISPRA, JAXA, Mines Paris Tech, NASA World Wind, NOAA IOOS, NOAA NCDC GOSIC, NOAA NCDC NEXRAD, NOAA NCDC NIDIS, NOAA NCDC NOMADS, NOAA/NASA GOES-R and GMU CSISS, Northrop Grumman, SURA/NIMSAT/GoMOOS, Spot Image, USGS, Washington Univ St. Lo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5 Contributing respon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ACRF, Caribbean Flood Team, ERDAS, ESIP AQ Cluster, ESRI, ESRI Canada, NOAA SNA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Data Product Access Topic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81360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WMS, WCS and W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ker Servic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ess OGC Web services, THREDDS/OPeNDA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dings Forma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NetCDF/CF, GRIB, KML, GML, JPEG2000, PNGs, GeoTIFF, MrSID, Geolocated JPEGs, CADRG, CIB, Shape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O 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Radar, Optical, Weather, Precipitation, TRMM flash flood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OS Imagery: Panchromatic, Near IR, S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Circulation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-frequency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itu ocean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stal Web Atlas hol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standard platfo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apServer, ArcIms Server, SDE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DR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3 ENM Species Distribution Analysis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Da W*S is already a Special Ar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D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ensors and Models Ac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8 Primary respon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 GEO-Ukraine, ICT4EO, IP3, NOAA IO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 NCDC NOMAD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Northrop Grumman, Spot Image, SURA/NIMSAT/GoM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Contributing respon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bbean Flood Team,Compusult, NASA World Wind, NCDC NEXRAD, Nob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5faa"/>
                </a:solidFill>
                <a:latin typeface="Arial"/>
              </a:rPr>
              <a:t>Goal, audience, and usage of the 'Use cases'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558440"/>
            <a:ext cx="82119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Cases are provided to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el the interac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f a (sub) system under study with its environment (actors are a user interface or other syste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authored by systems analysts and end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starting point for tests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develope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verse Technology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develope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P Community WG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oth support AI Pilot storyboards, to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monstra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-operabilit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mong online persistent system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unning a scenario over sever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tivating systems functions as described in the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558440"/>
            <a:ext cx="793584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Access WG provides coordination and guidance to achieve interoperable Access Services to products, sensors and mod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relies on the AIP-2 particapants offerings and contributions to the pi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priority use cases being developed by the Access W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nent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ervice(s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ccess WG Charter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GEO Task AR-07-02 </a:t>
            </a:r>
            <a:br>
              <a:rPr sz="36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3873600"/>
            <a:ext cx="64008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rge Percivall, O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P Feder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a"/>
                </a:solidFill>
                <a:latin typeface="Arial"/>
              </a:rPr>
              <a:t>Template for Access Use Cas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473040" y="1870200"/>
            <a:ext cx="8253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a"/>
                </a:solidFill>
                <a:latin typeface="Arial"/>
              </a:rPr>
              <a:t>Simple exampl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008000" y="1415880"/>
            <a:ext cx="68263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ublish &amp; Interac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990720"/>
          <a:ext cx="8494560" cy="35877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840"/>
                <a:gridCol w="1698480"/>
                <a:gridCol w="1698480"/>
              </a:tblGrid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 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on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con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 Components and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nd deploy a component with associated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capability to host a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-accessible offe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9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 with 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s between client and services for datasets, sensors, models, workf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request for a client to access a service or al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received information from the service or al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1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BB4-A6A0-459A-AF0B-505F7E4D2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55480" y="4978440"/>
            <a:ext cx="793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key goal is to reduce the complexity when it is not needed.   This means that an “Interaction” should be similar for products, sensors , models  and for workflow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Initial Ac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ucceed – initially, AIP aims to reduce the variations arising from different communities.    At first cut “Bind” will be the same for everyone, then advance to a dialog 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at few things need to be the same so that everything else can be differ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he larger communities WFS, WCS, SOS, etc. are more alike than they are differ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Access Services – OGC WCS/W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very Metadata – OGC CSW and ISO 19115/ISO 191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gether this allows users to find and access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EEB-300F-4283-8E19-3D6BA3C0B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a"/>
                </a:solidFill>
                <a:latin typeface="Arial"/>
              </a:rPr>
              <a:t>ACCESS WG Contact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474920"/>
            <a:ext cx="804852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Group Lea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Glenn Rutledge, Hervé Caumont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is Bermudez, Terence Van Zyl, Hans Peter Plag, Anwar Vahed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ting to the Access WG Web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ites.google.com/site/geosspilo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cribing to the Access WG Mailing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ists.opengeospatial.org/mailman/listinfo/aip_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ess W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ekly telecons to discuss issues arising and new use cases that need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ouncements through Access WG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56936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Global Earth Observation System of Systems (GEOSS) </a:t>
            </a:r>
            <a:br>
              <a:rPr sz="3200"/>
            </a:b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rchitecture Implementation Pilot (AIP)</a:t>
            </a:r>
            <a:br>
              <a:rPr sz="2800"/>
            </a:b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Air Quality and Health Working Group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85800" y="3860640"/>
            <a:ext cx="640080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fan Falke, Rudy Husa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ank Lindsay, David McCab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in Rob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55623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nario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Q Scenario envisions multiple types of AQ observ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satell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servations of AQ and meteo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5faa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5faa"/>
                </a:solidFill>
                <a:latin typeface="Arial"/>
              </a:rPr>
              <a:t>in-situ, 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ambien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tio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mode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meteorology and chemical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oth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missions data, fire observations, LIDAR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registered, discovered and access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SS and used to inform diverse decision-makers: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Air Quality Manag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Policy-Ma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community-developed ; AIP participation diverse (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b-scenario testing AIP Use Cases describes a Wildfire/Smok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, standardized AQ dat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to GCI: Community Catalog,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scenarios which can integrate the offerings using GCI-compatible Service Orient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0840" y="837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Q&amp;H WG Core Participan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60240" y="1739880"/>
          <a:ext cx="8115480" cy="4440240"/>
        </p:xfrm>
        <a:graphic>
          <a:graphicData uri="http://schemas.openxmlformats.org/drawingml/2006/table">
            <a:tbl>
              <a:tblPr/>
              <a:tblGrid>
                <a:gridCol w="1308240"/>
                <a:gridCol w="1219320"/>
                <a:gridCol w="1079280"/>
                <a:gridCol w="1155960"/>
                <a:gridCol w="1180800"/>
                <a:gridCol w="965520"/>
                <a:gridCol w="1206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/ 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/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P AQ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AA NG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rop Grum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486400" y="4800600"/>
            <a:ext cx="213372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9091" t="18300" r="58590" b="32030"/>
          <a:stretch/>
        </p:blipFill>
        <p:spPr>
          <a:xfrm>
            <a:off x="457200" y="1600200"/>
            <a:ext cx="2438280" cy="28954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flipV="1">
            <a:off x="2819520" y="2133720"/>
            <a:ext cx="304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2514600"/>
            <a:ext cx="45720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2666880"/>
            <a:ext cx="3808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1905120"/>
            <a:ext cx="7621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A/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438280"/>
            <a:ext cx="6858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895480"/>
            <a:ext cx="8380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971800"/>
            <a:ext cx="9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1752480"/>
            <a:ext cx="129528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51814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3124080"/>
            <a:ext cx="16002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8098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217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5121360"/>
            <a:ext cx="762120" cy="47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39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5400" y="1905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886200" y="1981080"/>
            <a:ext cx="190512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962520" y="21333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038480" y="2286000"/>
            <a:ext cx="175284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74" idx="3"/>
            <a:endCxn id="276" idx="3"/>
          </p:cNvCxnSpPr>
          <p:nvPr/>
        </p:nvCxnSpPr>
        <p:spPr>
          <a:xfrm>
            <a:off x="7086240" y="2095560"/>
            <a:ext cx="229320" cy="1372320"/>
          </a:xfrm>
          <a:prstGeom prst="curvedConnector5">
            <a:avLst>
              <a:gd name="adj1" fmla="val 200000"/>
              <a:gd name="adj2" fmla="val 49986"/>
              <a:gd name="adj3" fmla="val 20000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487480" y="9144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Q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5943600"/>
            <a:ext cx="1523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400440" y="541008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1480" y="5334120"/>
            <a:ext cx="54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Access to GEOSS Cleari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Portal/DataSpace input to GEO Por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paces part of Community Por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3124080"/>
            <a:ext cx="4343400" cy="2286000"/>
          </a:xfrm>
          <a:custGeom>
            <a:avLst/>
            <a:gdLst/>
            <a:ahLst/>
            <a:rect l="l" t="t" r="r" b="b"/>
            <a:pathLst>
              <a:path w="2832" h="1440">
                <a:moveTo>
                  <a:pt x="2832" y="1440"/>
                </a:moveTo>
                <a:cubicBezTo>
                  <a:pt x="1988" y="1368"/>
                  <a:pt x="1144" y="1296"/>
                  <a:pt x="672" y="1056"/>
                </a:cubicBezTo>
                <a:cubicBezTo>
                  <a:pt x="200" y="816"/>
                  <a:pt x="112" y="17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53341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volving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3809880"/>
            <a:ext cx="1066680" cy="7621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181480" y="350496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4267080"/>
            <a:ext cx="8384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4224240"/>
            <a:ext cx="108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DC, ISO, S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AQ AIP Linkages  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5029200"/>
            <a:ext cx="1981080" cy="276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ommunity Cat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819520"/>
            <a:ext cx="1904760" cy="276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ommunity 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CS-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4648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CS-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5943600"/>
            <a:ext cx="533160" cy="231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5943600"/>
            <a:ext cx="533520" cy="231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5943600"/>
            <a:ext cx="533520" cy="231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*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6" idx="2"/>
            <a:endCxn id="302" idx="0"/>
          </p:cNvCxnSpPr>
          <p:nvPr/>
        </p:nvCxnSpPr>
        <p:spPr>
          <a:xfrm flipH="1">
            <a:off x="3999960" y="5316480"/>
            <a:ext cx="110556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6" idx="2"/>
            <a:endCxn id="303" idx="0"/>
          </p:cNvCxnSpPr>
          <p:nvPr/>
        </p:nvCxnSpPr>
        <p:spPr>
          <a:xfrm flipH="1">
            <a:off x="4609800" y="5316480"/>
            <a:ext cx="49608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6" idx="2"/>
            <a:endCxn id="304" idx="0"/>
          </p:cNvCxnSpPr>
          <p:nvPr/>
        </p:nvCxnSpPr>
        <p:spPr>
          <a:xfrm>
            <a:off x="5105160" y="5316480"/>
            <a:ext cx="11484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5562720" y="5943600"/>
            <a:ext cx="533160" cy="231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296" idx="2"/>
            <a:endCxn id="308" idx="0"/>
          </p:cNvCxnSpPr>
          <p:nvPr/>
        </p:nvCxnSpPr>
        <p:spPr>
          <a:xfrm>
            <a:off x="5105160" y="5316480"/>
            <a:ext cx="72468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3505320" y="5410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3809880"/>
            <a:ext cx="1447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2057400"/>
            <a:ext cx="1447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pp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91520" y="5029200"/>
            <a:ext cx="1447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7d00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5867280"/>
            <a:ext cx="1447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2819520"/>
            <a:ext cx="1447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7d00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2057400"/>
            <a:ext cx="76212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316" idx="2"/>
            <a:endCxn id="297" idx="0"/>
          </p:cNvCxnSpPr>
          <p:nvPr/>
        </p:nvCxnSpPr>
        <p:spPr>
          <a:xfrm>
            <a:off x="4191120" y="2295360"/>
            <a:ext cx="95328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4724280" y="2057400"/>
            <a:ext cx="68580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8" idx="2"/>
            <a:endCxn id="297" idx="0"/>
          </p:cNvCxnSpPr>
          <p:nvPr/>
        </p:nvCxnSpPr>
        <p:spPr>
          <a:xfrm>
            <a:off x="5067360" y="2295360"/>
            <a:ext cx="7668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5486400" y="2057400"/>
            <a:ext cx="68580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20" idx="2"/>
            <a:endCxn id="297" idx="0"/>
          </p:cNvCxnSpPr>
          <p:nvPr/>
        </p:nvCxnSpPr>
        <p:spPr>
          <a:xfrm flipH="1">
            <a:off x="5142960" y="2295360"/>
            <a:ext cx="68652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581280" y="2438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CS-W, W*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2895480"/>
            <a:ext cx="198432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s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,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1415880" y="3854160"/>
            <a:ext cx="411480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981080"/>
            <a:ext cx="2057400" cy="581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Serv,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4114800"/>
            <a:ext cx="1981080" cy="58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alog,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5486400"/>
            <a:ext cx="1984320" cy="581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Service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s, Se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13716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 AIP 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2971440" y="5867280"/>
            <a:ext cx="609480" cy="763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13716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AQ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2057400"/>
            <a:ext cx="76212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1981080"/>
            <a:ext cx="2057400" cy="581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Serv,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2057400"/>
            <a:ext cx="68580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057400"/>
            <a:ext cx="76212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981080"/>
            <a:ext cx="2057400" cy="581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Serv,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2057400"/>
            <a:ext cx="685800" cy="231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2057400"/>
            <a:ext cx="685800" cy="231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2057400"/>
            <a:ext cx="762120" cy="231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981080"/>
            <a:ext cx="2057400" cy="581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. Services,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2438640" cy="11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4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48520" y="5257800"/>
            <a:ext cx="83808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324120" y="601992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0" y="1371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 IT 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971440" y="5867280"/>
            <a:ext cx="609480" cy="763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324120" y="601992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2971440" y="5867280"/>
            <a:ext cx="609480" cy="763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248520" y="5257800"/>
            <a:ext cx="838080" cy="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324120" y="6019920"/>
            <a:ext cx="7621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2971440" y="5867280"/>
            <a:ext cx="609480" cy="763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nnects Observations to Decis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FED-D3E1-4D4A-A2EA-61CA998B9D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63600" y="1668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63600" y="1668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dataManagement_Intl_shortText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701028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8A11-7DD7-4930-BFC8-CDB15545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56386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Key Standards for AQ: CSW, WCS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2057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do we want to b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88620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88" name=""/>
          <p:cNvSpPr/>
          <p:nvPr/>
        </p:nvSpPr>
        <p:spPr>
          <a:xfrm>
            <a:off x="3124080" y="20574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get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0638000">
            <a:off x="2590560" y="5638320"/>
            <a:ext cx="1218960" cy="6098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88862"/>
                <a:lnTo>
                  <a:pt x="0" y="10765"/>
                </a:lnTo>
                <a:arcTo wR="10800" hR="10800" stAng="-10788862" swAng="1078886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61722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Automatically extract discovery metadata from Capabilities &amp; K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15238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Arial"/>
              </a:rPr>
              <a:t>CSW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– Queriable Fields for 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24280" y="15238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Arial"/>
              </a:rPr>
              <a:t>WCS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– Data Access Service Exten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2209680"/>
            <a:ext cx="4343400" cy="4601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 with UNIDATA &amp; GAL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D Grids for Models, Satellit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netCDF – 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Time Series (STS) for Poi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netCDF – 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715000" y="5181480"/>
            <a:ext cx="16002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33530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mmunity Portal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824040"/>
            <a:ext cx="876312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r interface between GEOSS CGI and AQ Community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tent aggregator an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air quality data/service providers and data/service users make use of the GEOSS Common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um for dialogue among the community in shared interests in air pollution events, analysis tools, models, datase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01000" y="649116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ortal: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28.252.16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rcRect l="0" t="1980" r="0" b="2967"/>
          <a:stretch/>
        </p:blipFill>
        <p:spPr>
          <a:xfrm>
            <a:off x="2362320" y="2894040"/>
            <a:ext cx="457200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9" name=""/>
          <p:cNvSpPr/>
          <p:nvPr/>
        </p:nvSpPr>
        <p:spPr>
          <a:xfrm flipH="1">
            <a:off x="2133720" y="3581280"/>
            <a:ext cx="1371600" cy="2286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3200400"/>
            <a:ext cx="192096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in finding and using search, visualization and analysis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5715000"/>
            <a:ext cx="167652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data analyses, publications, et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552720" y="3809880"/>
            <a:ext cx="685800" cy="30492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3048120"/>
            <a:ext cx="175284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activity on AIP AQ&amp;H WG Google Sites as 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552720" y="4876560"/>
            <a:ext cx="685800" cy="2286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572000"/>
            <a:ext cx="1387440" cy="2040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/Services filtered for ‘air’ from search on ESRI GEO Portal as Geo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4648320"/>
            <a:ext cx="152388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/services metadata from Data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181480"/>
            <a:ext cx="76212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6172200"/>
            <a:ext cx="60948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3"/>
          <p:cNvSpPr/>
          <p:nvPr/>
        </p:nvSpPr>
        <p:spPr>
          <a:xfrm>
            <a:off x="1257480" y="1698480"/>
            <a:ext cx="6629400" cy="464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1263960" y="1930320"/>
            <a:ext cx="6203160" cy="4054320"/>
            <a:chOff x="1263960" y="1930320"/>
            <a:chExt cx="6203160" cy="4054320"/>
          </a:xfrm>
        </p:grpSpPr>
        <p:sp>
          <p:nvSpPr>
            <p:cNvPr id="103" name="Oval 11"/>
            <p:cNvSpPr/>
            <p:nvPr/>
          </p:nvSpPr>
          <p:spPr>
            <a:xfrm>
              <a:off x="2742480" y="4393440"/>
              <a:ext cx="1469880" cy="146340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2349720" y="1938960"/>
              <a:ext cx="1468440" cy="146196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ed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4490640" y="2975760"/>
              <a:ext cx="1468440" cy="1461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sign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velop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plo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969520" y="3271680"/>
              <a:ext cx="1497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lot (AI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1263960" y="5464440"/>
              <a:ext cx="182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OSS Com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rastructure (GC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1553400" y="375840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4508640" y="5342400"/>
              <a:ext cx="121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sis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4673880" y="211176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1452240" y="1930320"/>
              <a:ext cx="1160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A Task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0"/>
            <p:cNvSpPr/>
            <p:nvPr/>
          </p:nvSpPr>
          <p:spPr>
            <a:xfrm rot="13205400">
              <a:off x="2225880" y="3586680"/>
              <a:ext cx="1162800" cy="9756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1"/>
            <p:cNvSpPr/>
            <p:nvPr/>
          </p:nvSpPr>
          <p:spPr>
            <a:xfrm rot="20703000">
              <a:off x="3755880" y="2244960"/>
              <a:ext cx="1162800" cy="9752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2"/>
            <p:cNvSpPr/>
            <p:nvPr/>
          </p:nvSpPr>
          <p:spPr>
            <a:xfrm rot="5803800">
              <a:off x="4094280" y="4286160"/>
              <a:ext cx="1158480" cy="978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"/>
          <p:cNvSpPr/>
          <p:nvPr/>
        </p:nvSpPr>
        <p:spPr>
          <a:xfrm>
            <a:off x="152280" y="1057320"/>
            <a:ext cx="80773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laboration of GEOSS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717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Interoperability Arrangements</a:t>
            </a:r>
            <a:br>
              <a:rPr sz="2800"/>
            </a:br>
            <a:r>
              <a:rPr b="1" lang="en-US" sz="1800" spc="-1" strike="noStrike">
                <a:solidFill>
                  <a:srgbClr val="005faa"/>
                </a:solidFill>
                <a:latin typeface="Arial"/>
              </a:rPr>
              <a:t>- From the GEOSS 10 Year Plan Reference Document - </a:t>
            </a:r>
            <a:endParaRPr b="1" lang="en-US" sz="1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482840"/>
            <a:ext cx="83120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through ope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reed to among contributing 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data and information throug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ic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tandards and intellectual property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opting 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agreed upon by consensu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ce to formal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will not require commercial or proprietar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ltiple software implemen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iant with the open standards should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is that at least one of the implementations should be available to all implementers  "royalty-fre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B3701EF-D688-4BB2-9C62-0A41AF19C9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32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Architecture </a:t>
            </a: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Implementation Pilo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incorporation of contributed components consistent with the GEOSS Architec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GEO Web Portal and a GEOSS Clearinghouse search fac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services through GEOSS Interoperability Arran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pport of GEOSS Societal Benefi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5095429-DF84-43AE-AFF8-7C2AA3735D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1600200"/>
            <a:ext cx="82296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93640" y="4794120"/>
            <a:ext cx="7778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I Pilot has broad international participation tha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ld only have occurred with GE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 interest &amp; momentum supporting GEOSS 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1 results in 2007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effective development proc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, Kickoff, Execu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20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organization communication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ernational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 Screencasts of Initial Operating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“Architecture Implementation Rep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2 Them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857240"/>
            <a:ext cx="7878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ment the GEOSS Common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SBAs identified by UIC/ADC collab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"persistent exemplar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e GEOS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and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and Compon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E94384E-210C-4876-9B3E-ABD8FE8809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3:24:17Z</dcterms:created>
  <dc:creator/>
  <dc:description/>
  <dc:language>en-US</dc:language>
  <cp:lastModifiedBy>Administrator</cp:lastModifiedBy>
  <dcterms:modified xsi:type="dcterms:W3CDTF">2009-01-13T21:09:37Z</dcterms:modified>
  <cp:revision>427</cp:revision>
  <dc:subject/>
  <dc:title>Update on OGC involvement in GEOSS</dc:title>
</cp:coreProperties>
</file>